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2.wmf" ContentType="image/x-wmf"/>
  <Override PartName="/ppt/media/image25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93E-D779-435E-864F-1126520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F45-CDFE-4458-90CC-9BD174C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595-EDBB-4CEC-9C89-B3790C7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0D0-8E09-4A25-82DE-10DAA7F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14A-8C53-4AE9-B602-889B505E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E0A-8892-48F0-AC8A-EDA39BE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41F-A1C5-4EFD-8C12-247DD9D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D6A-D620-4D0E-84A4-E2A127A2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9B2-D1DC-4CE6-8179-3C849C6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8DA-C28B-4AE9-A1A8-68972F0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DA-FBD0-4429-8DDA-6D6E19B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46A-B87A-40CD-93CF-C896C46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AAD2-2733-4CC1-AC2F-67DF8AB7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Morgan Goes to 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64628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231156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4572000"/>
            <a:ext cx="1782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right to something because of earn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eel sad and sorry for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2666880"/>
            <a:ext cx="189864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1841760" cy="171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something started or put it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671720" cy="41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p or up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3760560" cy="379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at something and fool around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9196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something tigh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292640" cy="412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 flipH="1">
            <a:off x="4724280" y="1066680"/>
            <a:ext cx="2743200" cy="221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enthusiasm, courage, 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very good;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19843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189576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892520" cy="192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y very hard to win; to become part of a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731960" cy="181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2286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, help, or pitch-in along with others; to give your time or money to help a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379600" cy="357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1873080" cy="150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or something you do to have a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36920" y="2755800"/>
            <a:ext cx="2268720" cy="134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1592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086600" y="4800600"/>
            <a:ext cx="15638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38080" y="4952880"/>
            <a:ext cx="184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2:43:49Z</dcterms:created>
  <dc:creator> </dc:creator>
  <dc:description/>
  <dc:language>en-US</dc:language>
  <cp:lastModifiedBy> </cp:lastModifiedBy>
  <dcterms:modified xsi:type="dcterms:W3CDTF">2007-10-08T02:59:13Z</dcterms:modified>
  <cp:revision>2</cp:revision>
  <dc:subject/>
  <dc:title>Ronald Morgan Goes to Bat</dc:title>
</cp:coreProperties>
</file>